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47ACE-DD3A-427E-99B5-622F63FA75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668C8-8086-42D4-94DE-2E6532AF9E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6BB32-AD8B-4BCA-B4BB-DBE36DF051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983E2-BA5B-4BBA-91F4-DA718E61C5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EB75B-5F74-4349-8F23-54B05803ED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CDDAD-3DDB-4E4D-8288-20C0837721A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0D9E5-4AC7-4E3B-8A76-4969DF8B57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73616-DB4F-4453-8A4B-A7A992980B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FDE1F-7F1A-4AD9-AE67-3C5379CD1B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8B56A-9AD1-4E6A-80EB-DEFB1CD674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1C7D7-7D4B-49AE-921D-A4AC5BFCEF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B1D4A-DAE2-49BF-B7F2-64B8B802D5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D549B-CB08-4222-A3C8-D8C9456FF2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9CB-46C1-4E70-A368-8CAD1E75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435-4441-4E1C-8AE4-CA679D49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E4B-325F-4C2B-BB7C-2F67ACD5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00A-7942-4039-A29C-B22F7282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E36-5434-4898-BEE9-F9B28701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260-25F6-4FA5-95D9-69C3FC35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921-8E35-4BAB-A488-C7C2DDFE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0878-1636-4363-8A87-BE74A310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3F4-17ED-4584-8BC5-E3182B9F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D6F-E857-445F-A517-4CB44AB0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61ED-679B-4DD6-AB15-9BCE74F6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FEC6-4B23-4C06-92F2-D85173E2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E179C1-7760-4B61-A509-A4C73252C4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Tabelle/Elenco_regioni_italiane.htm" TargetMode="External"/><Relationship Id="rId2" Type="http://schemas.openxmlformats.org/officeDocument/2006/relationships/hyperlink" Target="file:///../Statistiche/Superficie_regioni_italiane.htm" TargetMode="External"/><Relationship Id="rId3" Type="http://schemas.openxmlformats.org/officeDocument/2006/relationships/hyperlink" Target="file:///../Statistiche/Superficie_regioni_italiane.htm" TargetMode="External"/><Relationship Id="rId4" Type="http://schemas.openxmlformats.org/officeDocument/2006/relationships/hyperlink" Target="file:///../Statistiche/Superficie_regioni_italiane.htm" TargetMode="External"/><Relationship Id="rId5" Type="http://schemas.openxmlformats.org/officeDocument/2006/relationships/hyperlink" Target="file:///../Statistiche/Popolazione_regioni_italiane.htm" TargetMode="External"/><Relationship Id="rId6" Type="http://schemas.openxmlformats.org/officeDocument/2006/relationships/hyperlink" Target="file:///../Statistiche/Densita_popolazione_regioni.htm" TargetMode="External"/><Relationship Id="rId7" Type="http://schemas.openxmlformats.org/officeDocument/2006/relationships/hyperlink" Target="file:///../../geografia/densita_popolazione.htm" TargetMode="External"/><Relationship Id="rId8" Type="http://schemas.openxmlformats.org/officeDocument/2006/relationships/hyperlink" Target="file:///../Tabelle/Province.htm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mbria.htm" TargetMode="External"/><Relationship Id="rId2" Type="http://schemas.openxmlformats.org/officeDocument/2006/relationships/hyperlink" Target="file:///Toscana.htm" TargetMode="External"/><Relationship Id="rId3" Type="http://schemas.openxmlformats.org/officeDocument/2006/relationships/hyperlink" Target="file:///Emilia_Romagna.htm" TargetMode="External"/><Relationship Id="rId4" Type="http://schemas.openxmlformats.org/officeDocument/2006/relationships/hyperlink" Target="file:///Emilia_Romagna.htm" TargetMode="External"/><Relationship Id="rId5" Type="http://schemas.openxmlformats.org/officeDocument/2006/relationships/hyperlink" Target="file:///../Mari_Coste/mar_adriatico.htm" TargetMode="External"/><Relationship Id="rId6" Type="http://schemas.openxmlformats.org/officeDocument/2006/relationships/hyperlink" Target="file:///Abruzzo.htm" TargetMode="External"/><Relationship Id="rId7" Type="http://schemas.openxmlformats.org/officeDocument/2006/relationships/hyperlink" Target="file:///Lazio.htm" TargetMode="External"/><Relationship Id="rId8" Type="http://schemas.openxmlformats.org/officeDocument/2006/relationships/hyperlink" Target="file:///Umbria.htm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Italia_in_generale/italia.htm" TargetMode="External"/><Relationship Id="rId2" Type="http://schemas.openxmlformats.org/officeDocument/2006/relationships/hyperlink" Target="file:///../Statistiche/Pil_procapite_regioni.htm" TargetMode="External"/><Relationship Id="rId3" Type="http://schemas.openxmlformats.org/officeDocument/2006/relationships/hyperlink" Target="file:///../Statistiche/Produzioni_agricole_italia.htm" TargetMode="External"/><Relationship Id="rId4" Type="http://schemas.openxmlformats.org/officeDocument/2006/relationships/hyperlink" Target="file:///../../geografia_economica/canna_da_zucchero_barbabietola.htm" TargetMode="External"/><Relationship Id="rId5" Type="http://schemas.openxmlformats.org/officeDocument/2006/relationships/hyperlink" Target="file:///../../geografia_economica/frumento.htm" TargetMode="External"/><Relationship Id="rId6" Type="http://schemas.openxmlformats.org/officeDocument/2006/relationships/hyperlink" Target="file:///../../geografia_economica/piante_da_frutto_ortaggi.htm" TargetMode="External"/><Relationship Id="rId7" Type="http://schemas.openxmlformats.org/officeDocument/2006/relationships/hyperlink" Target="file:///../../geografia_economica/piante_da_frutto_ortaggi.htm" TargetMode="External"/><Relationship Id="rId8" Type="http://schemas.openxmlformats.org/officeDocument/2006/relationships/hyperlink" Target="file:///../../geografia_economica/legumi.htm" TargetMode="External"/><Relationship Id="rId9" Type="http://schemas.openxmlformats.org/officeDocument/2006/relationships/hyperlink" Target="file:///../../geografia_economica/piante_oleifere.htm" TargetMode="External"/><Relationship Id="rId10" Type="http://schemas.openxmlformats.org/officeDocument/2006/relationships/hyperlink" Target="file:///../../geografia_economica/agricoltura.htm" TargetMode="External"/><Relationship Id="rId11" Type="http://schemas.openxmlformats.org/officeDocument/2006/relationships/hyperlink" Target="file:///../Statistiche/Allevamento_bestiame_italia.htm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Statistiche/Allevamento_bestiame_italia_1.htm" TargetMode="External"/><Relationship Id="rId2" Type="http://schemas.openxmlformats.org/officeDocument/2006/relationships/hyperlink" Target="file:///../../geografia_economica/allevamento_bestiame.htm" TargetMode="External"/><Relationship Id="rId3" Type="http://schemas.openxmlformats.org/officeDocument/2006/relationships/hyperlink" Target="file:///../Statistiche/Allevamento_bestiame_italia_1.htm" TargetMode="External"/><Relationship Id="rId4" Type="http://schemas.openxmlformats.org/officeDocument/2006/relationships/hyperlink" Target="file:///../Statistiche/Allevamento_bestiame_italia_1.htm" TargetMode="External"/><Relationship Id="rId5" Type="http://schemas.openxmlformats.org/officeDocument/2006/relationships/hyperlink" Target="file:///../../geografia_economica/evoluzione_pesca.htm" TargetMode="External"/><Relationship Id="rId6" Type="http://schemas.openxmlformats.org/officeDocument/2006/relationships/hyperlink" Target="file:///../../geografia_economica/settore_secondario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31640" y="431640"/>
            <a:ext cx="9072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elle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arch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ono diffuse soprattutto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icco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edi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pre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olte di esse si sono sviluppate in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ttori tradizionali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mobili, strumenti musicali, pelletteria, cart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Turis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viluppato il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turismo balnear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 nelle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città d'ar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Urbi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ffuso anche il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turismo religios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Loreto March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RE NOTIZ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Curiosit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si tiene ogni anno la Qui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" y="720360"/>
            <a:ext cx="907092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iatti Tipici Marchigi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provare assolutamente sono quelle pietanze in cui i sapori e gli aromi tipici della montagna sono abilmente mescolati a quelli marinari come, ad esempio, gl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aghetti mari e mo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 base di calamari e funghi, e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ana pescatr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chet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 base di rana e fagio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 primi piatti tipici della cucina marchigiana sono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sagne all´ascola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dite con il tartufo bianco,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ppelletti in brodo di capp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gliatelle con i calama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lec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de di scampi dal guscio tenero),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nestra di ceci e ma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assiche tagliatelle al tartufo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igorosamente bian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per i secondi piatti le pietanze sono diverse a seconda che ci si trovi sulla costa o, al contrario, in qualche caratteristica località di montag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iche pietanze costiere sono il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merluzzo alla marchigia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dito con un sugo di pomodoro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rde di Anco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mpanate e cotte al forno,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ccalà in bian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 salsa verde a base di prezzemolo e lo stoccafisso, preparato in umido con patate o in `potacchio´, ossia brasato con pomodoro, acciughe, aglio, rosmarino, prezzemolo e peperonc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 i piatti tipici di montagna sono da provare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lenta costarella e salsic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nestra di ceci e ma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ova fritte nel burro e cosparse di filetti di tartuf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insalata di funghi e tartuf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Giovanni D'Agostino 1^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2015/20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60000" y="144360"/>
            <a:ext cx="90709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Il nome Marche: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nome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March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viene dal tedesco antico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</a:rPr>
              <a:t>Mark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he significa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regione di confin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 Nel medioevo, infatti, la regione era al confine con i territori del Sacro Romano Imp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04760"/>
            <a:ext cx="9863280" cy="7454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uto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a statuto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ordina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uperfici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9.36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km</a:t>
            </a:r>
            <a:r>
              <a:rPr b="0" lang="it-IT" sz="2000" spc="-1" strike="noStrike" baseline="12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superficie de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solamente il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3,1%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del territorio nazion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polazion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.565.335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bita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nsità di popolazion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67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abitanti per k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Provinc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nco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poluogo di reg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scoli Pice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Ferm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acer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esa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rb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perfic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03280" y="1655640"/>
            <a:ext cx="94312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perficie:9 366 Km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ri:Mar Adria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lievi montuosi:Appennino Umbro-Marchig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.Pennino,M.Fema,M.Vet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iumi(a carattere  torrentizzio):   Foglia,Metauro,Esino,Chienti,T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poluogo di Regione:Ancon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poluoghi di Provincia:                               Ascoli Piceno,Fermo,Macerata,Pesaro,Urb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nfin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ves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Umbri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oscan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milia Romagn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ord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Emilia Romagn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San Marino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Mare Adria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Mare Adria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ud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Abruzz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zi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Umbri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47880" y="64800"/>
            <a:ext cx="9070920" cy="75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conomia in gener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dotto interno lordo pro-capi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è tra i maggiori dell'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tal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a regione risulta solamente all'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1° pos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gricoltura</a:t>
            </a: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arbabietole da zuccher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re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Ortagg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Alberi da fru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egum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Giraso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'agricoltu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raticata ne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zone collin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llevamento</a:t>
            </a: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vico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ui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onig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2600"/>
            <a:ext cx="10152000" cy="75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··4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··allev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avico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··6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allevament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i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i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2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··7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allevament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ig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più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esca</a:t>
            </a:r>
            <a:r>
              <a:rPr b="1" lang="it-IT" sz="18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iffus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 porti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sa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an Bened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usa l'industria di surgelazione del pes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dustria</a:t>
            </a:r>
            <a:r>
              <a:rPr b="1" lang="it-IT" sz="18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imen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bbigliamen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lzatu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- Macerata e Ascoli Pice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obi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sa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odomes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ntieri Nava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Anco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r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bri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trumenti musical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- Castelfidard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20:10:41Z</dcterms:created>
  <dc:creator>Nicola </dc:creator>
  <dc:description/>
  <dc:language>en-US</dc:language>
  <cp:lastModifiedBy>Angela</cp:lastModifiedBy>
  <dcterms:modified xsi:type="dcterms:W3CDTF">2016-06-15T20:41:35Z</dcterms:modified>
  <cp:revision>5</cp:revision>
  <dc:subject/>
  <dc:title>Presentazione standard di PowerPoint</dc:title>
</cp:coreProperties>
</file>