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7DC0E-3122-4E5A-9BFE-16000A46AD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5EB7F-2238-4DC0-83DE-DA1D23F9BAA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0DE45-6C68-4467-98B0-4D1F1A06F3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CF3B8-F1A9-4353-A5A7-43A50562475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1C866-78A1-48FD-936D-EDA3D3904D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67341-3F44-45FB-8D50-16552DF5E61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40BF7-285E-49C4-8FC2-74928609EB7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697E6-3FDC-437D-8ADB-8AB5602040A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66FB7-894F-42F1-B091-619762EA8A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2904A-68EC-4EFF-B4BC-4605ECF0EFA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31133-8813-4DCD-8906-3F24238959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6D777-CE72-4074-AE1E-2C25AE6B96C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05775-7AED-4C40-BCD6-8963ADA8E9C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21B2-E242-4D93-AC00-1B985D91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996E-4F68-46CB-83C0-02B02805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F5E6-9239-4FBA-9CCB-3B3E4EF0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ECC-DC9B-4FBA-ABD4-37156B26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D5F-403F-45E4-98DC-95C702BD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00AB-28C4-4246-9E5E-37770BA4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8C61-F6A8-4F4E-B788-9689B20A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0662-D162-4534-B72F-768345B0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257-F8EB-47BF-B3E6-DCB486DF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4B6E-2429-4CE9-99BC-04C3441B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1C39-1540-4123-8002-44C9DE58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4D2-6144-4219-A653-1E605A98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9364B-9D26-41C1-B7C0-A46A295C232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marche.htm" TargetMode="External"/><Relationship Id="rId2" Type="http://schemas.openxmlformats.org/officeDocument/2006/relationships/hyperlink" Target="file:///toscana.htm" TargetMode="External"/><Relationship Id="rId3" Type="http://schemas.openxmlformats.org/officeDocument/2006/relationships/hyperlink" Target="file:///lazio.htm" TargetMode="External"/><Relationship Id="rId4" Type="http://schemas.openxmlformats.org/officeDocument/2006/relationships/hyperlink" Target="file:///tevere.htm" TargetMode="External"/><Relationship Id="rId5" Type="http://schemas.openxmlformats.org/officeDocument/2006/relationships/hyperlink" Target="file:///lago_trasimeno.htm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'Umb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647640" y="1800360"/>
            <a:ext cx="9070920" cy="525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720720" y="647640"/>
            <a:ext cx="9144000" cy="5973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1224000" y="1368360"/>
            <a:ext cx="7920000" cy="5472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Giovanni D'Agostino 1^A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2015/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e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655640" y="2592360"/>
            <a:ext cx="6912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65160" y="0"/>
            <a:ext cx="9655200" cy="90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040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8000" spc="-1" strike="noStrike">
                <a:solidFill>
                  <a:srgbClr val="000000"/>
                </a:solidFill>
                <a:latin typeface="Times New Roman"/>
              </a:rPr>
              <a:t>Superficie: 8.456 Km² Abitanti: 896.000 Densità: 106 ab/Km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1574640" y="2479680"/>
            <a:ext cx="697896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56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54000" y="538200"/>
            <a:ext cx="9882000" cy="10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Capoluogo: Perugia (166.200 ab.) Capoluoghi di provincia: Terni 112.200 ab. Altri comuni: Foligno 57.2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Città di Castello 40.1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Spoleto 38.7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Gubbio 32.6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Assisi 28.2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Bastia Umbra 21.9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Corciano 21.300 ab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0520" y="287280"/>
            <a:ext cx="79711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Orvieto 20.9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Narni 20.0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Marsciano 18.9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Todi 17.0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Umbertide 16.7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Castiglione del Lago 15.700 ab.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Gualdo Tadino 15.400 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-71280" y="0"/>
            <a:ext cx="10152000" cy="10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Confini: </a:t>
            </a:r>
            <a:r>
              <a:rPr b="0" lang="it-IT" sz="4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rche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a NORD-EST</a:t>
            </a:r>
            <a:br>
              <a:rPr sz="4800"/>
            </a:br>
            <a:r>
              <a:rPr b="0" lang="it-IT" sz="4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Toscana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 a OVEST</a:t>
            </a:r>
            <a:br>
              <a:rPr sz="4800"/>
            </a:br>
            <a:r>
              <a:rPr b="0" lang="it-IT" sz="4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Lazio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a SUD                             Monti principali: Monte Vettore 2.448 m. Fiumi principali: </a:t>
            </a:r>
            <a:r>
              <a:rPr b="0" lang="it-IT" sz="4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Tevere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405 Km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Nera 116 Km Laghi principali: </a:t>
            </a:r>
            <a:r>
              <a:rPr b="0" lang="it-IT" sz="4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Lago Trasimeno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128 Km²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Lago di Piediluco 1,6 Km² Isole principali: Isola Polvese, Isola Maggiore (nel lago Trasime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224000" y="2448000"/>
            <a:ext cx="777564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431640" y="1871640"/>
            <a:ext cx="8064720" cy="4967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224000" y="2160720"/>
            <a:ext cx="835164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1T06:46:47Z</dcterms:created>
  <dc:creator>Nicola </dc:creator>
  <dc:description/>
  <dc:language>en-US</dc:language>
  <cp:lastModifiedBy>Utente</cp:lastModifiedBy>
  <dcterms:modified xsi:type="dcterms:W3CDTF">2016-06-03T10:28:57Z</dcterms:modified>
  <cp:revision>2</cp:revision>
  <dc:subject/>
  <dc:title>L'Umbria</dc:title>
</cp:coreProperties>
</file>